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2220-A6DA-4CE1-95B9-F18C4FFC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5310-2DFE-4BAE-B609-EF375F1A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EE52-86AC-4210-99A0-6F2D3756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554-70B8-479D-8B47-D5696FD6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9B15-B9CA-4047-818A-770093CD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C769-055C-431D-A098-8A3ABD8C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01FB-18F7-4C43-95C8-023A85ED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A984-C24A-49D1-8AEF-4A6CE743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A7A3-59AB-4CC9-9759-CC0437B6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ECEA-E019-4B06-AEFD-0AC5E198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7BB5-4D4E-4517-B22E-D186CF78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FBC8-2C66-4283-8EF8-9A3F648D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0713-4E43-455F-A359-4C290006A7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838080" y="1371600"/>
            <a:ext cx="7162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9999"/>
                </a:solidFill>
                <a:latin typeface="Arial"/>
              </a:rPr>
              <a:t>Компьютерные вирусы и антивирусные програм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1219320" y="1219320"/>
            <a:ext cx="65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00080"/>
                </a:solidFill>
                <a:uFillTx/>
                <a:latin typeface="Arial"/>
              </a:rPr>
              <a:t>Компьютерные вирусы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 – это программы, которые могут «размножаться» (самокопироваться) и внедрять свой программный код в файлы, докумен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1371600" y="990720"/>
            <a:ext cx="6858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Активизация вир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ступление определенной даты или дня недел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запуск программ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ткрытие докумен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609480" y="8380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 «</a:t>
            </a:r>
            <a:r>
              <a:rPr b="0" i="1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среде обитания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» вирусы можно разделить на:  </a:t>
            </a: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57200" y="2362320"/>
            <a:ext cx="7848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а) Файловые вирусы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внедряются в программы и активизируются при их запуск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8"/>
          <p:cNvSpPr/>
          <p:nvPr/>
        </p:nvSpPr>
        <p:spPr>
          <a:xfrm>
            <a:off x="914400" y="1523880"/>
            <a:ext cx="72388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б) Макровирусы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заражают файлы</a:t>
            </a: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окументов. (текстовые документ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9"/>
          <p:cNvSpPr/>
          <p:nvPr/>
        </p:nvSpPr>
        <p:spPr>
          <a:xfrm>
            <a:off x="990720" y="1295280"/>
            <a:ext cx="723888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в) Сетевые вирусы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ередают по компьютерным сетям свой программный код и запускают его на компьютерах, подключаемых к этой сети.            (эл. почта, Интерне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533520" y="114300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9999"/>
                </a:solidFill>
                <a:uFillTx/>
                <a:latin typeface="Arial"/>
              </a:rPr>
              <a:t>Антивирусные программы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  используют постоянно обновляемые списки известных вирусов, которые включают название вирусов и их программные к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04920" y="129528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Антивирусные сторожа (мониторы)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беспечивают проверку файлов в процессе их загрузки в оперативную память.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Kaspersky Anti-Virus, Dr.Web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5800" y="1523880"/>
            <a:ext cx="815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Антивирусные сканеры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сле запуска проверяют файлы и оперативную память на наличие вирусов и обеспечивают нейтрализацию вирус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11-16T20:35:5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