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C97-5AF4-444E-8178-3939E83C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250-C784-45C1-9426-D2A424D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0D0-24CC-4DAA-926B-FD89F163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611-4618-4A2D-B37D-18E1D01B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744-1B91-4B8B-9AEE-0E971B2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B36-FCCD-4D65-8BA0-D26C38D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720-D08E-4B96-8517-62AB7D1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208-3EB8-44D7-9ED6-DC71FEAC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C96-0ACC-49AB-9319-9D82BD5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DA0-FFA6-4638-8D2F-1CEC0AC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8A9-86C4-4BDD-8DAB-24AA63D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A3E-8A93-43CA-8FAF-E1C359D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DAF-B756-4785-BBBE-525C25E5E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71680" y="165276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провероч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___ 1__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0 – 2011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_____________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85880" y="3071880"/>
          <a:ext cx="7572240" cy="4022640"/>
        </p:xfrm>
        <a:graphic>
          <a:graphicData uri="http://schemas.openxmlformats.org/drawingml/2006/table">
            <a:tbl>
              <a:tblPr/>
              <a:tblGrid>
                <a:gridCol w="2523960"/>
                <a:gridCol w="409680"/>
                <a:gridCol w="4638600"/>
              </a:tblGrid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комое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незнакомого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"/>
          <p:cNvSpPr/>
          <p:nvPr/>
        </p:nvSpPr>
        <p:spPr>
          <a:xfrm>
            <a:off x="214200" y="-3060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тай текст. Подчеркни незнакомые тебе слова, подсчитай их, запиши ответ цифрой и выпиш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накомые слова в столбик в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знакомых сл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робуй выяснить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го незнакомого слова и запиши его рядом с этим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85840" y="22644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0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думаешь, чем обидел старик сову? Напиши одним предло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5184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, какими словами, ты бы извинился перед совой, если бы ты был на месте старика? Напиши в двух предло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1"/>
          <p:cNvSpPr/>
          <p:nvPr/>
        </p:nvSpPr>
        <p:spPr>
          <a:xfrm>
            <a:off x="785880" y="214200"/>
            <a:ext cx="76438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л однажды старик сову. Ничего не сказала                                             сова старику, но перестала у него                                                                                     на лугу мышей ловить. Старик                                                                              это поначалу не заметил, а мыши                                           обнаглели. Стали они гнёзда                                              шмелей разорять. Улетели                                                                          шмели, перестали клевер опылять. Но и тут ничего                                   не понял старик. А клевер перестал расти на лугу. Голодно стало корове, и перестала она давать молоко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 всё в природе связано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обой! Тепер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шёл скорее к с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alice-hogwarts.narod.ru/owl/36.jpg"/>
          <p:cNvPicPr/>
          <p:nvPr/>
        </p:nvPicPr>
        <p:blipFill>
          <a:blip r:embed="rId1"/>
          <a:stretch/>
        </p:blipFill>
        <p:spPr>
          <a:xfrm>
            <a:off x="6000840" y="1428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img.66.ru/news/0/2/80/2801.jpg"/>
          <p:cNvPicPr/>
          <p:nvPr/>
        </p:nvPicPr>
        <p:blipFill>
          <a:blip r:embed="rId2"/>
          <a:stretch/>
        </p:blipFill>
        <p:spPr>
          <a:xfrm>
            <a:off x="1000080" y="4357800"/>
            <a:ext cx="2071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85840" y="2178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рисунки стрелками так, чтобы было легче пересказа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01720" y="3292560"/>
          <a:ext cx="5740560" cy="274680"/>
        </p:xfrm>
        <a:graphic>
          <a:graphicData uri="http://schemas.openxmlformats.org/drawingml/2006/table">
            <a:tbl>
              <a:tblPr/>
              <a:tblGrid>
                <a:gridCol w="1265400"/>
                <a:gridCol w="2084400"/>
                <a:gridCol w="2390760"/>
              </a:tblGrid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Рисунок 2" descr="http://alice-hogwarts.narod.ru/owl/36.jpg"/>
          <p:cNvPicPr/>
          <p:nvPr/>
        </p:nvPicPr>
        <p:blipFill>
          <a:blip r:embed="rId1"/>
          <a:stretch/>
        </p:blipFill>
        <p:spPr>
          <a:xfrm>
            <a:off x="1285920" y="1714680"/>
            <a:ext cx="904680" cy="904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http://www.fotokritik.ru/photos/small/2007/07/02/292639.jpg"/>
          <p:cNvPicPr/>
          <p:nvPr/>
        </p:nvPicPr>
        <p:blipFill>
          <a:blip r:embed="rId2"/>
          <a:stretch/>
        </p:blipFill>
        <p:spPr>
          <a:xfrm>
            <a:off x="5572080" y="1571760"/>
            <a:ext cx="961920" cy="119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sibpush.ru/images/zhiv_kr_412.gif"/>
          <p:cNvPicPr/>
          <p:nvPr/>
        </p:nvPicPr>
        <p:blipFill>
          <a:blip r:embed="rId3"/>
          <a:stretch/>
        </p:blipFill>
        <p:spPr>
          <a:xfrm>
            <a:off x="1357200" y="3286080"/>
            <a:ext cx="91440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herbalogya.voldemort.ru/img/klever.gif"/>
          <p:cNvPicPr/>
          <p:nvPr/>
        </p:nvPicPr>
        <p:blipFill>
          <a:blip r:embed="rId4"/>
          <a:stretch/>
        </p:blipFill>
        <p:spPr>
          <a:xfrm>
            <a:off x="1285920" y="4714920"/>
            <a:ext cx="104760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http://media2.picsearch.com/is?fo2Vvpi3m5l62zfQXDzZV-CXA6ecG518Y5inrWHJU-A"/>
          <p:cNvPicPr/>
          <p:nvPr/>
        </p:nvPicPr>
        <p:blipFill>
          <a:blip r:embed="rId5"/>
          <a:srcRect l="0" t="0" r="9197" b="0"/>
          <a:stretch/>
        </p:blipFill>
        <p:spPr>
          <a:xfrm>
            <a:off x="3214800" y="2428920"/>
            <a:ext cx="145728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http://media1.picsearch.com/is?4uxcc1HKAKiYByXABEL9UNSSUUxuXf_2WwgJz_UWvBU"/>
          <p:cNvPicPr/>
          <p:nvPr/>
        </p:nvPicPr>
        <p:blipFill>
          <a:blip r:embed="rId6"/>
          <a:stretch/>
        </p:blipFill>
        <p:spPr>
          <a:xfrm>
            <a:off x="3429000" y="32860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http://img.66.ru/news/0/2/80/2801.jpg"/>
          <p:cNvPicPr/>
          <p:nvPr/>
        </p:nvPicPr>
        <p:blipFill>
          <a:blip r:embed="rId7"/>
          <a:stretch/>
        </p:blipFill>
        <p:spPr>
          <a:xfrm>
            <a:off x="3286080" y="4643280"/>
            <a:ext cx="136224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Картинка 5 из 1526"/>
          <p:cNvPicPr/>
          <p:nvPr/>
        </p:nvPicPr>
        <p:blipFill>
          <a:blip r:embed="rId8"/>
          <a:stretch/>
        </p:blipFill>
        <p:spPr>
          <a:xfrm>
            <a:off x="5572080" y="3357720"/>
            <a:ext cx="101304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482640" y="122436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http://alice-hogwarts.narod.ru/owl/36.jpg"/>
          <p:cNvPicPr/>
          <p:nvPr/>
        </p:nvPicPr>
        <p:blipFill>
          <a:blip r:embed="rId1"/>
          <a:stretch/>
        </p:blipFill>
        <p:spPr>
          <a:xfrm>
            <a:off x="1143000" y="2214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http://img.66.ru/news/0/2/80/2801.jpg"/>
          <p:cNvPicPr/>
          <p:nvPr/>
        </p:nvPicPr>
        <p:blipFill>
          <a:blip r:embed="rId2"/>
          <a:stretch/>
        </p:blipFill>
        <p:spPr>
          <a:xfrm>
            <a:off x="5902200" y="2214720"/>
            <a:ext cx="1627200" cy="1428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00040" y="35964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и запиши цепочку слов так, чтобы показать, как в природе все связано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06600" y="1627920"/>
            <a:ext cx="61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00040" y="4150080"/>
            <a:ext cx="814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857760" y="2786040"/>
            <a:ext cx="1071360" cy="42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85840" y="447120"/>
            <a:ext cx="857232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 на вопросы. Если нужно, перечитай текст еще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 одна сова ловит за ночь 4 мыши. Сколько мышей может поймать сова за три ночи? Запиши получившееся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го в этой сказки больше всего ног? Допиши в ответ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ольше всего н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г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 меньше – у человека или у мыши?                                                              На сколько? Запиши правильное слово и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 человека н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85840" y="58824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в тексте и спиши два последних предложения. Проверь. Если надо, испра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14200" y="402840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800" y="354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85840" y="386964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черкни в записанных словах буквы мягких соглас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и эти слова вертикальной чертой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 и запиши цифрой в прямоугольнике рядом                              со словами количество звуков и количество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57120" y="214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спиши выделенные в тексте жирным шрифтом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143680" y="178596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786720" y="25002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143680" y="3286080"/>
            <a:ext cx="11430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6786720" y="3357720"/>
            <a:ext cx="11430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143680" y="25002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786720" y="1785960"/>
            <a:ext cx="11476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642960" y="1785960"/>
            <a:ext cx="357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85880" y="21420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33600" y="1687680"/>
          <a:ext cx="6076800" cy="4946400"/>
        </p:xfrm>
        <a:graphic>
          <a:graphicData uri="http://schemas.openxmlformats.org/drawingml/2006/table">
            <a:tbl>
              <a:tblPr/>
              <a:tblGrid>
                <a:gridCol w="1511280"/>
                <a:gridCol w="3265560"/>
                <a:gridCol w="1299960"/>
              </a:tblGrid>
              <a:tr h="73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ивая 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ое раст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Рисунок 2" descr="http://alice-hogwarts.narod.ru/owl/36.jpg"/>
          <p:cNvPicPr/>
          <p:nvPr/>
        </p:nvPicPr>
        <p:blipFill>
          <a:blip r:embed="rId1"/>
          <a:stretch/>
        </p:blipFill>
        <p:spPr>
          <a:xfrm>
            <a:off x="2000160" y="185724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http://img.66.ru/news/0/2/80/2801.jpg"/>
          <p:cNvPicPr/>
          <p:nvPr/>
        </p:nvPicPr>
        <p:blipFill>
          <a:blip r:embed="rId2"/>
          <a:stretch/>
        </p:blipFill>
        <p:spPr>
          <a:xfrm>
            <a:off x="6429240" y="1714680"/>
            <a:ext cx="914400" cy="80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http://herbalogya.voldemort.ru/img/klever.gif"/>
          <p:cNvPicPr/>
          <p:nvPr/>
        </p:nvPicPr>
        <p:blipFill>
          <a:blip r:embed="rId3"/>
          <a:stretch/>
        </p:blipFill>
        <p:spPr>
          <a:xfrm>
            <a:off x="857160" y="2071800"/>
            <a:ext cx="704880" cy="771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http://media1.picsearch.com/is?4uxcc1HKAKiYByXABEL9UNSSUUxuXf_2WwgJz_UWvBU"/>
          <p:cNvPicPr/>
          <p:nvPr/>
        </p:nvPicPr>
        <p:blipFill>
          <a:blip r:embed="rId4"/>
          <a:stretch/>
        </p:blipFill>
        <p:spPr>
          <a:xfrm>
            <a:off x="7786800" y="228600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Картинка 5 из 1526"/>
          <p:cNvPicPr/>
          <p:nvPr/>
        </p:nvPicPr>
        <p:blipFill>
          <a:blip r:embed="rId5"/>
          <a:stretch/>
        </p:blipFill>
        <p:spPr>
          <a:xfrm>
            <a:off x="1357200" y="3000240"/>
            <a:ext cx="714600" cy="8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sibpush.ru/images/zhiv_kr_412.gif"/>
          <p:cNvPicPr/>
          <p:nvPr/>
        </p:nvPicPr>
        <p:blipFill>
          <a:blip r:embed="rId6"/>
          <a:stretch/>
        </p:blipFill>
        <p:spPr>
          <a:xfrm>
            <a:off x="6572160" y="2928960"/>
            <a:ext cx="704880" cy="923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http://im5-tub.yandex.net/i?id=24679033-03"/>
          <p:cNvPicPr/>
          <p:nvPr/>
        </p:nvPicPr>
        <p:blipFill>
          <a:blip r:embed="rId7"/>
          <a:stretch/>
        </p:blipFill>
        <p:spPr>
          <a:xfrm>
            <a:off x="714240" y="4000680"/>
            <a:ext cx="981360" cy="73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im2-tub.yandex.net/i?id=156735448-13"/>
          <p:cNvPicPr/>
          <p:nvPr/>
        </p:nvPicPr>
        <p:blipFill>
          <a:blip r:embed="rId8"/>
          <a:stretch/>
        </p:blipFill>
        <p:spPr>
          <a:xfrm>
            <a:off x="7715160" y="3643200"/>
            <a:ext cx="695520" cy="92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im3-tub.yandex.net/i?id=101743641-10"/>
          <p:cNvPicPr/>
          <p:nvPr/>
        </p:nvPicPr>
        <p:blipFill>
          <a:blip r:embed="rId9"/>
          <a:stretch/>
        </p:blipFill>
        <p:spPr>
          <a:xfrm>
            <a:off x="1071720" y="4857840"/>
            <a:ext cx="1038240" cy="78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Картинка 96 из 203"/>
          <p:cNvPicPr/>
          <p:nvPr/>
        </p:nvPicPr>
        <p:blipFill>
          <a:blip r:embed="rId10"/>
          <a:stretch/>
        </p:blipFill>
        <p:spPr>
          <a:xfrm>
            <a:off x="7072200" y="4714920"/>
            <a:ext cx="1133640" cy="89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4 из 1167"/>
          <p:cNvPicPr/>
          <p:nvPr/>
        </p:nvPicPr>
        <p:blipFill>
          <a:blip r:embed="rId11"/>
          <a:stretch/>
        </p:blipFill>
        <p:spPr>
          <a:xfrm>
            <a:off x="714240" y="5857920"/>
            <a:ext cx="1028880" cy="799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5" descr="http://im4-tub.yandex.net/i?id=54981944-12"/>
          <p:cNvPicPr/>
          <p:nvPr/>
        </p:nvPicPr>
        <p:blipFill>
          <a:blip r:embed="rId12"/>
          <a:stretch/>
        </p:blipFill>
        <p:spPr>
          <a:xfrm>
            <a:off x="7572240" y="5857920"/>
            <a:ext cx="1067040" cy="847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571680" y="57600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7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стрелками объекты природы                                      с соответствующим словом-поня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57120" y="29556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сказке живых существ, котор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летать? Запиши ответ чи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8:09:57Z</dcterms:created>
  <dc:creator>Фекличева</dc:creator>
  <dc:description/>
  <dc:language>en-US</dc:language>
  <cp:lastModifiedBy>N17</cp:lastModifiedBy>
  <dcterms:modified xsi:type="dcterms:W3CDTF">2010-11-08T10:45:38Z</dcterms:modified>
  <cp:revision>44</cp:revision>
  <dc:subject/>
  <dc:title>Слайд 1</dc:title>
</cp:coreProperties>
</file>