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685-BA6D-4698-95A2-0D6D88D7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92E-DCD0-4132-AD4B-70C80127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678-F445-4F57-BD97-8036C126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F6A-B8A3-421B-BC70-D919C84B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0F5-80AA-47E3-8BF8-C944615F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117-6B38-4C2A-BDFF-67045FAB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966-4D4F-44FC-B1B7-88C3BE47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C64-0165-4811-82E0-F54C7639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67C-BA0F-4BFC-BB1A-F5F81EA0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2E4-B120-417E-A3CD-7788BBFD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A6D-43E0-4A11-B672-8C975399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9A5-CA5D-42A3-B140-1676DC56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07A9-68DC-4262-8253-FE5CBEAD6A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e5c"/>
                </a:solidFill>
                <a:latin typeface="Arial"/>
              </a:rPr>
              <a:t>Педагогика сотрудничества</a:t>
            </a:r>
            <a:br>
              <a:rPr sz="4000"/>
            </a:br>
            <a:r>
              <a:rPr b="0" lang="en-US" sz="4000" spc="-1" strike="noStrike">
                <a:solidFill>
                  <a:srgbClr val="3e3e5c"/>
                </a:solidFill>
                <a:latin typeface="Arial"/>
              </a:rPr>
              <a:t> как наиболее эффективная из групповых форм </a:t>
            </a:r>
            <a:br>
              <a:rPr sz="4000"/>
            </a:br>
            <a:r>
              <a:rPr b="0" lang="en-US" sz="4000" spc="-1" strike="noStrike">
                <a:solidFill>
                  <a:srgbClr val="3e3e5c"/>
                </a:solidFill>
                <a:latin typeface="Arial"/>
              </a:rPr>
              <a:t>  в условиях традиционной системы обучения  иностранному языку</a:t>
            </a: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e5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5. Jigsaw</a:t>
            </a:r>
            <a:r>
              <a:rPr b="0" lang="en-US" sz="36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e5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(перевод с английского - ажурная пила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Каждый  член группы находит материал по своей части.  Затем эксперты разных групп  встречаются и обмениваются информацией.  Это  называется   " ВСТРЕЧА ЭКСПЕРТОВ".</a:t>
            </a: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Затем  они возвращаются в свои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группы и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обучают других членов группы всему новому, что узнали сами. Те,  в  свою  очередь,  докладывают о своей части задания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 (как зубцы одной пилы)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6. Learning Together (учимся вмест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Каждой группе дается задание подготовить свою часть новой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т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В результате  совместной  работы отдельных групп достигается усвоение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ВСЕГО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матери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С самого начала каждая группа имеет  двойную задачу:  с одной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стороны, академическую - достижение  познавательной цели,   а с другой, социальную - организацию  успешной работы каждого члена группы  в  решении  общей зада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Каждый учитель знает, что проблема МОТИВАЦИИ  учебной деятельности учащихся не менее,  а может быть и более важна,  чем способ организации, условия и методика работы над зада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Но совместная работа в группах как раз и дает прекрасный стимул для познавательной деятельности, для коммуникации, поскольку  в этом случае всегда можно рассчитывать на заинтересованность со стороны товари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692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Основной принцип личностно-ориентированного подхода в обучении  – в центре обучения должен находиться </a:t>
            </a:r>
            <a:r>
              <a:rPr b="0" lang="en-US" sz="3600" spc="-1" strike="noStrike">
                <a:solidFill>
                  <a:srgbClr val="3e3e5c"/>
                </a:solidFill>
                <a:latin typeface="Arial"/>
              </a:rPr>
              <a:t>ученик,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а не учитель, деятельность познания, а не препода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Такой подход полностью отвечает  специфике иностран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Если мы обучаем практическому владению тому или иному виду речевой деятельности, то обучать этому можно лишь через </a:t>
            </a:r>
            <a:r>
              <a:rPr b="0" lang="en-US" sz="3600" spc="-1" strike="noStrike">
                <a:solidFill>
                  <a:srgbClr val="3e3e5c"/>
                </a:solidFill>
                <a:latin typeface="Arial"/>
              </a:rPr>
              <a:t>практику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в этом виде деятельности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В мировой педагогической практике такой подход осуществляют три дидактические систем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открытые школы (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open education or open classrooms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индивидуальный стиль обучения (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the Learning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Styles Approach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обучение в сотрудничестве (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cooperative learning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)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Обучение в сотрудничестве 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органично вписывается в 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классно-урочную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систему, не затрагивает содержание 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Эта технология позволяет наиболее эффективно достигать прогнозируемых результатов в условиях 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традиционной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системы обучения  иностранному языку  и раскрывать потенциальные возможности каждого учени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8036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Существует много разнообразных вариантов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обучения в сотрудничеств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Student</a:t>
            </a:r>
            <a:r>
              <a:rPr b="1" lang="en-US" sz="24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Team Learning (STL</a:t>
            </a: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, обучение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команде)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Student-Teams - Achievement Divisions</a:t>
            </a: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STAD</a:t>
            </a: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индивидуально-групповое обучение)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Teams</a:t>
            </a: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Games</a:t>
            </a: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Tournament</a:t>
            </a: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   (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TGT</a:t>
            </a: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, командно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игровая форма обуч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.Tеam  Assisted Individualization (TAI, индивидуальная работа в команд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Jigsaw   (дословный перевод с английского - ажурная пила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e5c"/>
                </a:solidFill>
                <a:latin typeface="Arial"/>
              </a:rPr>
              <a:t>Learning Together ( учимся вмест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Student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Team Learning (STL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, обучение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команде)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Основные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принципы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: награда - всей команде,     индивидуальная</a:t>
            </a:r>
            <a:r>
              <a:rPr b="0" lang="ru-RU" sz="32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ответственность,  равные возмо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e3e5c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Персональная  ответственность каждого ученика означает, что успех  всей группы зависит от успехов каждого.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Равные возможности для достижения успеха означают, что каждый учащийся приносит очки своей группе,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которые он зарабатывает путем улучшения своих собственных предыдущих  результа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Student-Teams - Achievement Divi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STAD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индивидуально-групповое обучение)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После выполнения заданий на закрепление нового материала  всеми  группами,  учитель  дает тест на  проверку  понимания  нового материала.  Задания теста учащиеся выполняют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индивидуально,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  вне групп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В отличие от предыдущего случая каждый ученик оценивается персонально и его отметка не влияет на результаты групп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3. 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Teams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Games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Tournament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   (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TGT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командно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игровая форма обучения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Учитель вместо индивидуального тестирования предлагает каждую неделю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соревновательные турниры  между  командами, </a:t>
            </a:r>
            <a:r>
              <a:rPr b="0" lang="ru-RU" sz="2800" spc="-1" strike="noStrike">
                <a:solidFill>
                  <a:srgbClr val="3e3e5c"/>
                </a:solidFill>
                <a:latin typeface="Arial"/>
              </a:rPr>
              <a:t>организует турнирные столы.  Победитель каждого стола приносит своей команде ОДИНАКОВОЕ количество баллов независимо от "планки" стола.  Слабые ученики,  соревнуясь с равными им  по силам учениками, имеют  РАВНЫЕ шансы на успех для своей команд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915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4. Team</a:t>
            </a: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Assisted  Individ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(индивидуальная работа в команде</a:t>
            </a: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Члены команды помогают друг другу при выполнении своих индивидуальных заданий, отмечая в специальном журнале успехи и продвижение</a:t>
            </a: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КАЖДОГО</a:t>
            </a: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члена коман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e3e5c"/>
                </a:solidFill>
                <a:latin typeface="Arial"/>
              </a:rPr>
              <a:t>Итоговые тесты проводятся также индивидуально, вне группы и оцениваются самими учениками</a:t>
            </a: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08:28:37Z</dcterms:created>
  <dc:creator>Мой</dc:creator>
  <dc:description/>
  <dc:language>en-US</dc:language>
  <cp:lastModifiedBy>Мой</cp:lastModifiedBy>
  <dcterms:modified xsi:type="dcterms:W3CDTF">2006-06-27T06:37:16Z</dcterms:modified>
  <cp:revision>20</cp:revision>
  <dc:subject/>
  <dc:title>Слайд 1</dc:title>
</cp:coreProperties>
</file>